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728-B892-411A-8324-EB0BA1B7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F26-B9AE-4E2B-9341-149C40AD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DBD-B6C0-4735-A3CD-24AF263B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BB0-2D36-43FA-8846-171FFFD6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29B-7976-47C9-BCCE-D8879A94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5D5-9DEB-43C2-AB91-03E03E64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4ED-62CC-48F8-B3CF-EB7CD86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795-943C-4DB5-B035-DEEC79C9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892-0279-49B3-9046-797C62A0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6E1-2152-41A2-A4B0-67AD484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27A-E1AD-4499-9422-9F776D8C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2B9-0EFA-49FE-8B02-7EF50C36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93D1-8772-47A4-B5FB-77D776572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ower-point was used in a high school lesson, preparing students for reading a chapter on early  African civilizations.  The before reading activities including: 1) vocabulary instruction, 2) introduction of background knowledge, and 3) preview of the chap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ta L. Archer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eop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y move from one place to to settle in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ima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rat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move from one place to another place at a specific season usually to get food or to br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Learning - Why do you think this group is migrating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2960" y="1981080"/>
            <a:ext cx="731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you think this group is mig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is group is migrating for the following reaso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0 years ago the Bantu began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ther areas of Africa.  Because of th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nt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red their language with other people in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this age referred to as the Stone Ag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 Age -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 Age -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3800" y="1981080"/>
            <a:ext cx="575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this age referred to as the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ge was referred by the Stone Age becaus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5240" y="1981080"/>
            <a:ext cx="413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Learning:  What can you conclude about the houses in early African settlem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41320" y="1981080"/>
            <a:ext cx="565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63680" y="1981080"/>
            <a:ext cx="64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l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76560" y="1981080"/>
            <a:ext cx="479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conclude about the houses in early African sett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se illustrations of houses in early African settlements, I could conclude that 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es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imal is one that is not w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s kept either on a farm or as a p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est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wild animal, you tame them for some human 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ate - ca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ate - ca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39800" y="1981080"/>
            <a:ext cx="5862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ate - eleph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ha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8360" y="1981080"/>
            <a:ext cx="640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ate - do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65360" y="1981080"/>
            <a:ext cx="58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human society that has cities, a central government, and usually has writing, art, and archite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ization - c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ization - 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87560" y="1981080"/>
            <a:ext cx="336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28840" y="1981080"/>
            <a:ext cx="2684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Begin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ing surviv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 and G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ing and He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Begin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ing surviv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 and G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ing and He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izations on the N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 Begin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surviv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ing and He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izations on the 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ntu Mig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tus Spread Thei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ha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group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nic group is a group of people who share the same ancestors, culture, language, religion, and custo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has hundreds of ethnic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Learning: What are some the differences between these ethnic grou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gro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5600" y="1981080"/>
            <a:ext cx="57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gro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92160" y="1981080"/>
            <a:ext cx="535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nic grou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85920" y="1981080"/>
            <a:ext cx="477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the differences between these ethnic group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differences between these ethnic groups inclu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2:56:42Z</dcterms:created>
  <dc:creator>Archer Anita</dc:creator>
  <dc:description/>
  <dc:language>en-US</dc:language>
  <cp:lastModifiedBy>Archer Anita</cp:lastModifiedBy>
  <dcterms:modified xsi:type="dcterms:W3CDTF">2012-04-22T17:46:18Z</dcterms:modified>
  <cp:revision>6</cp:revision>
  <dc:subject/>
  <dc:title>Africa </dc:title>
</cp:coreProperties>
</file>